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0233600" cy="32918400"/>
  <p:notesSz cx="32100838" cy="3917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C904-F3CA-4B6F-AE6E-F4533382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7880" y="9509040"/>
            <a:ext cx="3419784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7880" y="19825920"/>
            <a:ext cx="3419784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3B0-9E90-42F1-A82D-31E44715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7880" y="950904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0541240" y="950904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7880" y="1982592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0541240" y="1982592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5AD1-8722-4D5D-8983-417D3DB3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7880" y="9509040"/>
            <a:ext cx="110113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580000" y="9509040"/>
            <a:ext cx="110113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6142480" y="9509040"/>
            <a:ext cx="110113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7880" y="19825920"/>
            <a:ext cx="110113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580000" y="19825920"/>
            <a:ext cx="110113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6142480" y="19825920"/>
            <a:ext cx="110113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1154-B046-478A-A45F-168FA180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7880" y="9509040"/>
            <a:ext cx="34197840" cy="19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D83-725D-4F2F-A04C-5F9937BF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7880" y="9509040"/>
            <a:ext cx="34197840" cy="197517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19A-2D5D-4380-A329-F49BBE1B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7880" y="9509040"/>
            <a:ext cx="16688520" cy="197517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0541240" y="9509040"/>
            <a:ext cx="16688520" cy="197517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59D-06CA-49A1-B9AE-5B6D7819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ABA-FEB1-4262-BADE-08DBAED3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7880" y="2925720"/>
            <a:ext cx="34197840" cy="2543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B6B-1F07-460C-9EB1-FB6510F2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7880" y="950904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0541240" y="9509040"/>
            <a:ext cx="16688520" cy="197517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7880" y="1982592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4E0-1969-48BD-8F6E-5EA4219D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7880" y="9509040"/>
            <a:ext cx="16688520" cy="197517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0541240" y="950904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41240" y="1982592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EAB-55C1-4570-B2F2-A58AECBB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7880" y="950904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0541240" y="9509040"/>
            <a:ext cx="1668852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7880" y="19825920"/>
            <a:ext cx="34197840" cy="94215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9960"/>
                <a:tab algn="l" pos="8359920"/>
              </a:tabLst>
            </a:pP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A87-1D43-406F-B7CE-EAFF46B0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7880" y="2925720"/>
            <a:ext cx="34197840" cy="548640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ctr">
            <a:noAutofit/>
          </a:bodyPr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7880" y="9509040"/>
            <a:ext cx="34197840" cy="1975176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rmAutofit/>
          </a:bodyPr>
          <a:p>
            <a:pPr marL="1566720" indent="-1566720">
              <a:spcBef>
                <a:spcPts val="3651"/>
              </a:spcBef>
              <a:buClr>
                <a:srgbClr val="000000"/>
              </a:buClr>
              <a:buFont typeface="Times New Roman"/>
              <a:buChar char="•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5520" indent="-1304640">
              <a:spcBef>
                <a:spcPts val="3651"/>
              </a:spcBef>
              <a:buClr>
                <a:srgbClr val="000000"/>
              </a:buClr>
              <a:buFont typeface="Times New Roman"/>
              <a:buChar char="–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2" marL="5224320" indent="-1044360">
              <a:spcBef>
                <a:spcPts val="3651"/>
              </a:spcBef>
              <a:buClr>
                <a:srgbClr val="000000"/>
              </a:buClr>
              <a:buFont typeface="Times New Roman"/>
              <a:buChar char="•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3" marL="7315200" indent="-1044720">
              <a:spcBef>
                <a:spcPts val="3651"/>
              </a:spcBef>
              <a:buClr>
                <a:srgbClr val="000000"/>
              </a:buClr>
              <a:buFont typeface="Times New Roman"/>
              <a:buChar char="–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4" marL="9406080" indent="-1046160">
              <a:spcBef>
                <a:spcPts val="3651"/>
              </a:spcBef>
              <a:buClr>
                <a:srgbClr val="000000"/>
              </a:buClr>
              <a:buFont typeface="Times New Roman"/>
              <a:buChar char="»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5" marL="9406080" indent="-1046160">
              <a:spcBef>
                <a:spcPts val="3651"/>
              </a:spcBef>
              <a:buClr>
                <a:srgbClr val="000000"/>
              </a:buClr>
              <a:buFont typeface="Times New Roman"/>
              <a:buChar char="»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  <a:p>
            <a:pPr lvl="6" marL="9406080" indent="-1046160">
              <a:spcBef>
                <a:spcPts val="3651"/>
              </a:spcBef>
              <a:buClr>
                <a:srgbClr val="000000"/>
              </a:buClr>
              <a:buFont typeface="Times New Roman"/>
              <a:buChar char="»"/>
              <a:tabLst>
                <a:tab algn="l" pos="4179960"/>
                <a:tab algn="l" pos="835992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7520" y="29992680"/>
            <a:ext cx="8381880" cy="2193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Autofit/>
          </a:bodyPr>
          <a:lstStyle>
            <a:lvl1pPr indent="0">
              <a:buNone/>
              <a:tabLst>
                <a:tab algn="l" pos="0"/>
                <a:tab algn="l" pos="4179960"/>
                <a:tab algn="l" pos="835992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79960"/>
                <a:tab algn="l" pos="835992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746240" y="29992680"/>
            <a:ext cx="12741120" cy="2193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Autofit/>
          </a:bodyPr>
          <a:lstStyle>
            <a:lvl1pPr indent="0" algn="ctr">
              <a:buNone/>
              <a:tabLst>
                <a:tab algn="l" pos="0"/>
                <a:tab algn="l" pos="4179960"/>
                <a:tab algn="l" pos="835992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79960"/>
                <a:tab algn="l" pos="835992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833480" y="29992680"/>
            <a:ext cx="8381880" cy="2193840"/>
          </a:xfrm>
          <a:prstGeom prst="rect">
            <a:avLst/>
          </a:prstGeom>
          <a:noFill/>
          <a:ln w="0">
            <a:noFill/>
          </a:ln>
        </p:spPr>
        <p:txBody>
          <a:bodyPr lIns="417960" rIns="417960" tIns="209160" bIns="209160" anchor="t">
            <a:noAutofit/>
          </a:bodyPr>
          <a:lstStyle>
            <a:lvl1pPr indent="0" algn="r">
              <a:buNone/>
              <a:tabLst>
                <a:tab algn="l" pos="0"/>
                <a:tab algn="l" pos="4179960"/>
                <a:tab algn="l" pos="8359920"/>
              </a:tabLst>
              <a:defRPr b="0" lang="en-US" sz="6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79960"/>
                <a:tab algn="l" pos="8359920"/>
              </a:tabLst>
            </a:pPr>
            <a:fld id="{0C1DD5AD-F36C-4664-94D3-96DD63036645}" type="slidenum"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4.wmf"/><Relationship Id="rId8" Type="http://schemas.openxmlformats.org/officeDocument/2006/relationships/image" Target="../media/image5.wmf"/><Relationship Id="rId9" Type="http://schemas.openxmlformats.org/officeDocument/2006/relationships/image" Target="../media/image2.wmf"/><Relationship Id="rId10" Type="http://schemas.openxmlformats.org/officeDocument/2006/relationships/image" Target="../media/image6.wmf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2.wmf"/><Relationship Id="rId17" Type="http://schemas.openxmlformats.org/officeDocument/2006/relationships/image" Target="../media/image12.wmf"/><Relationship Id="rId18" Type="http://schemas.openxmlformats.org/officeDocument/2006/relationships/image" Target="../media/image13.wmf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5.wmf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6.wmf"/><Relationship Id="rId29" Type="http://schemas.openxmlformats.org/officeDocument/2006/relationships/image" Target="../media/image17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8.wmf"/><Relationship Id="rId35" Type="http://schemas.openxmlformats.org/officeDocument/2006/relationships/image" Target="../media/image19.wmf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20.wmf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21.wmf"/><Relationship Id="rId44" Type="http://schemas.openxmlformats.org/officeDocument/2006/relationships/image" Target="../media/image22.wmf"/><Relationship Id="rId45" Type="http://schemas.openxmlformats.org/officeDocument/2006/relationships/image" Target="../media/image14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image" Target="../media/image23.wmf"/><Relationship Id="rId50" Type="http://schemas.openxmlformats.org/officeDocument/2006/relationships/image" Target="../media/image24.wmf"/><Relationship Id="rId51" Type="http://schemas.openxmlformats.org/officeDocument/2006/relationships/image" Target="../media/image14.png"/><Relationship Id="rId52" Type="http://schemas.openxmlformats.org/officeDocument/2006/relationships/image" Target="../media/image14.png"/><Relationship Id="rId53" Type="http://schemas.openxmlformats.org/officeDocument/2006/relationships/image" Target="../media/image14.png"/><Relationship Id="rId54" Type="http://schemas.openxmlformats.org/officeDocument/2006/relationships/image" Target="../media/image14.png"/><Relationship Id="rId55" Type="http://schemas.openxmlformats.org/officeDocument/2006/relationships/image" Target="../media/image25.wmf"/><Relationship Id="rId56" Type="http://schemas.openxmlformats.org/officeDocument/2006/relationships/image" Target="../media/image26.wmf"/><Relationship Id="rId57" Type="http://schemas.openxmlformats.org/officeDocument/2006/relationships/image" Target="../media/image27.wmf"/><Relationship Id="rId58" Type="http://schemas.openxmlformats.org/officeDocument/2006/relationships/image" Target="../media/image14.png"/><Relationship Id="rId59" Type="http://schemas.openxmlformats.org/officeDocument/2006/relationships/image" Target="../media/image14.png"/><Relationship Id="rId60" Type="http://schemas.openxmlformats.org/officeDocument/2006/relationships/image" Target="../media/image14.png"/><Relationship Id="rId61" Type="http://schemas.openxmlformats.org/officeDocument/2006/relationships/image" Target="../media/image14.png"/><Relationship Id="rId62" Type="http://schemas.openxmlformats.org/officeDocument/2006/relationships/image" Target="../media/image14.png"/><Relationship Id="rId63" Type="http://schemas.openxmlformats.org/officeDocument/2006/relationships/image" Target="../media/image14.png"/><Relationship Id="rId64" Type="http://schemas.openxmlformats.org/officeDocument/2006/relationships/image" Target="../media/image28.wmf"/><Relationship Id="rId65" Type="http://schemas.openxmlformats.org/officeDocument/2006/relationships/image" Target="../media/image29.wmf"/><Relationship Id="rId66" Type="http://schemas.openxmlformats.org/officeDocument/2006/relationships/image" Target="../media/image14.png"/><Relationship Id="rId67" Type="http://schemas.openxmlformats.org/officeDocument/2006/relationships/image" Target="../media/image14.png"/><Relationship Id="rId68" Type="http://schemas.openxmlformats.org/officeDocument/2006/relationships/image" Target="../media/image14.png"/><Relationship Id="rId69" Type="http://schemas.openxmlformats.org/officeDocument/2006/relationships/image" Target="../media/image14.png"/><Relationship Id="rId7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915400" y="1066680"/>
            <a:ext cx="21488400" cy="353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Gli aggettivi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4952880"/>
            <a:ext cx="11582640" cy="17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SEMPLIC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AS WE FIND THEM IN THE DICTIONAR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7391520"/>
            <a:ext cx="75438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A CASA E’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B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L MIO CANE E’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VECC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RO SONO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A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 AUTOMOBILI ITALIANE SONO </a:t>
            </a: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0" y="5638680"/>
            <a:ext cx="1226808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Times New Roman"/>
              </a:rPr>
              <a:t>COMPARATIV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WHEN TWO OR MORE THINGS ARE COMPARED TO EACH OTH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173200" y="8610480"/>
            <a:ext cx="11810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MIA CASA E’ 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PIU’ BELLA DELL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T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MIA CASA 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E’ MENO BELLA DELL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CASA DI UMB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MIA CASA </a:t>
            </a:r>
            <a:r>
              <a:rPr b="0" lang="en-GB" sz="2400" spc="-1" strike="noStrike">
                <a:solidFill>
                  <a:srgbClr val="009900"/>
                </a:solidFill>
                <a:latin typeface="Times New Roman"/>
              </a:rPr>
              <a:t>E’ BELLA CO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LA CASA DI TUO FRATEL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422720" y="5334120"/>
            <a:ext cx="8762760" cy="21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Times New Roman"/>
              </a:rPr>
              <a:t>SUPERLATI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WHEN SOMETHING IS VERY OR THE MOST + AD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489400" y="807732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MIA CASA E’ </a:t>
            </a: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LA PIU’ BELLA D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VICIN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TUA CASA E’ </a:t>
            </a:r>
            <a:r>
              <a:rPr b="0" lang="en-GB" sz="2400" spc="-1" strike="noStrike">
                <a:solidFill>
                  <a:srgbClr val="0033cc"/>
                </a:solidFill>
                <a:latin typeface="Times New Roman"/>
              </a:rPr>
              <a:t>BELLISSIMA / MOLTO B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876920" y="6781680"/>
            <a:ext cx="1676160" cy="1467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8897480" y="8915400"/>
            <a:ext cx="762120" cy="1104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859000" y="899172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15087600" y="10744200"/>
            <a:ext cx="1066680" cy="933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19050120" y="10667880"/>
            <a:ext cx="1600200" cy="1087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19431000" y="12573000"/>
            <a:ext cx="2209680" cy="1577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14935320" y="12649320"/>
            <a:ext cx="1447560" cy="1266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1523880" y="8991720"/>
            <a:ext cx="1676520" cy="119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3886200" y="9753480"/>
            <a:ext cx="1857240" cy="259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1066680" y="13182480"/>
            <a:ext cx="2819520" cy="939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5257800" y="133351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819520" y="14173200"/>
            <a:ext cx="1952640" cy="1703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6535520"/>
            <a:ext cx="40233600" cy="1295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9278720"/>
            <a:ext cx="40233600" cy="1295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868280" y="15849720"/>
            <a:ext cx="12801600" cy="5181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RREGOL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BUONO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MIGLIORE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9900"/>
                </a:solidFill>
                <a:latin typeface="Times New Roman"/>
              </a:rPr>
              <a:t>OTT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ATTIVO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PEGGIORE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PESS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5"/>
          <a:stretch/>
        </p:blipFill>
        <p:spPr>
          <a:xfrm>
            <a:off x="32156280" y="8686800"/>
            <a:ext cx="2438640" cy="2225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6"/>
          <a:stretch/>
        </p:blipFill>
        <p:spPr>
          <a:xfrm>
            <a:off x="31089600" y="12192120"/>
            <a:ext cx="3276720" cy="2867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7"/>
          <a:stretch/>
        </p:blipFill>
        <p:spPr>
          <a:xfrm>
            <a:off x="685800" y="23393520"/>
            <a:ext cx="1752480" cy="7840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8"/>
          <a:stretch/>
        </p:blipFill>
        <p:spPr>
          <a:xfrm>
            <a:off x="3962520" y="22097880"/>
            <a:ext cx="1888920" cy="2210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09480" y="20345400"/>
            <a:ext cx="381024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GRAND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ICCOL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7696080" y="20954880"/>
            <a:ext cx="1917720" cy="2210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05720" y="7518240"/>
            <a:ext cx="26822160" cy="178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67680" y="23164920"/>
            <a:ext cx="2133720" cy="2361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315200" y="22021920"/>
            <a:ext cx="419112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LUMINOS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CUR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8"/>
          <a:stretch/>
        </p:blipFill>
        <p:spPr>
          <a:xfrm>
            <a:off x="13182480" y="21267720"/>
            <a:ext cx="2295720" cy="2278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9"/>
          <a:stretch/>
        </p:blipFill>
        <p:spPr>
          <a:xfrm>
            <a:off x="17221320" y="22174200"/>
            <a:ext cx="2307960" cy="3733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5163920" y="21259800"/>
            <a:ext cx="3581280" cy="27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LLEGR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RIST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4"/>
          <a:stretch/>
        </p:blipFill>
        <p:spPr>
          <a:xfrm>
            <a:off x="21259800" y="21107520"/>
            <a:ext cx="2857680" cy="2600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5"/>
          <a:stretch/>
        </p:blipFill>
        <p:spPr>
          <a:xfrm>
            <a:off x="24841080" y="23774400"/>
            <a:ext cx="1509840" cy="3357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22402800" y="23088600"/>
            <a:ext cx="28386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MALAT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AN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0"/>
          <a:stretch/>
        </p:blipFill>
        <p:spPr>
          <a:xfrm>
            <a:off x="29899080" y="21031200"/>
            <a:ext cx="1933560" cy="4191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8498680" y="24612480"/>
            <a:ext cx="4038840" cy="177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MUSCOLOS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3"/>
          <a:stretch/>
        </p:blipFill>
        <p:spPr>
          <a:xfrm>
            <a:off x="34899480" y="21336120"/>
            <a:ext cx="4676760" cy="2143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4"/>
          <a:stretch/>
        </p:blipFill>
        <p:spPr>
          <a:xfrm>
            <a:off x="35585280" y="25755480"/>
            <a:ext cx="3195720" cy="3743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4366320" y="22555080"/>
            <a:ext cx="502920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MODERN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NTIC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9"/>
          <a:stretch/>
        </p:blipFill>
        <p:spPr>
          <a:xfrm>
            <a:off x="1219320" y="25374600"/>
            <a:ext cx="3886200" cy="3489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0"/>
          <a:stretch/>
        </p:blipFill>
        <p:spPr>
          <a:xfrm>
            <a:off x="7086600" y="28117800"/>
            <a:ext cx="3962520" cy="3679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523880" y="26898480"/>
            <a:ext cx="609624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FREDD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ALD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5"/>
          <a:stretch/>
        </p:blipFill>
        <p:spPr>
          <a:xfrm>
            <a:off x="17221320" y="26517600"/>
            <a:ext cx="2590560" cy="2554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6"/>
          <a:stretch/>
        </p:blipFill>
        <p:spPr>
          <a:xfrm>
            <a:off x="12877920" y="26517600"/>
            <a:ext cx="2971800" cy="2716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7"/>
          <a:stretch/>
        </p:blipFill>
        <p:spPr>
          <a:xfrm>
            <a:off x="21107520" y="26579520"/>
            <a:ext cx="2514600" cy="2443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2115800" y="28879920"/>
            <a:ext cx="3429000" cy="20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IOVOS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154280" y="28651320"/>
            <a:ext cx="37339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NUVOLOS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345400" y="28803600"/>
            <a:ext cx="3962520" cy="245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REN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64"/>
          <a:stretch/>
        </p:blipFill>
        <p:spPr>
          <a:xfrm>
            <a:off x="31775400" y="26669880"/>
            <a:ext cx="3392640" cy="3733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5"/>
          <a:stretch/>
        </p:blipFill>
        <p:spPr>
          <a:xfrm>
            <a:off x="25298280" y="28041480"/>
            <a:ext cx="2938680" cy="3819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8041480" y="27432000"/>
            <a:ext cx="49532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IUS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APERT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 rot="5442000">
            <a:off x="1366560" y="-1589040"/>
            <a:ext cx="4651560" cy="7398000"/>
          </a:xfrm>
          <a:prstGeom prst="rtTriangl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34975440" y="-360"/>
            <a:ext cx="5257800" cy="5638680"/>
          </a:xfrm>
          <a:prstGeom prst="rtTriangl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21:27:28Z</dcterms:created>
  <dc:creator>ValeriaP</dc:creator>
  <dc:description/>
  <dc:language>en-US</dc:language>
  <cp:lastModifiedBy>Preferred Customer</cp:lastModifiedBy>
  <dcterms:modified xsi:type="dcterms:W3CDTF">2001-01-08T01:17:52Z</dcterms:modified>
  <cp:revision>13</cp:revision>
  <dc:subject/>
  <dc:title>No Slide Title</dc:title>
</cp:coreProperties>
</file>